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3DE-03C5-4176-8494-A638ED4D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94F-596B-4659-8E86-AD19F985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FD33-D27B-4E3D-AADB-7AFD2B7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4C83F-334A-4D92-9D47-7506824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F3907-62FE-4AC4-BCCB-7F2C9C0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1DFC-E19F-44D6-BDD6-26FDA57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16F68-D265-40DC-BB0F-BDC6C9B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97637-8D46-45C5-9360-545897D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2F312-6D5E-4D0C-ADFF-6D4ED89A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2282D-76D7-4EB7-B2FC-4934886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6F656-8D9D-4512-985F-734D4E0A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C2E-E53F-4572-AEB1-6A9168FF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A19-C989-4AB7-8736-B249AC2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FFA-B8AB-43E3-8C1E-E6D678C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1218-019C-4848-A5E8-A9E29E5F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4EA-AD38-48F9-9032-0417535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F8D-A75A-4221-A652-93309A37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E3D-DAA9-4C20-949D-26780DE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582-04CF-42E9-9869-35F5849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ADF-A7E8-4281-98D8-F84D462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490-5CE2-451C-9620-4841263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F0E-C2D4-4217-AC32-7789007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D2C5-2D9F-44AC-A3DB-9AEE093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A72B-8F47-4B0A-B1DD-5291271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C85F-D49C-47D9-9D01-B4926D39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CC8-21EA-4FA1-A65E-B6F7DFC7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7DDA-A382-4B84-A454-4AD28B0C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17BC-559D-4385-92B7-27ACF20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115E-5098-43DC-9C52-A125A47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4050-C98B-4FEC-AD44-E1DDCC6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F698-FC13-4FB6-A3CE-B99F64B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8BD-538B-41E1-B7F9-A3C60AE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8B0A-ECFE-48F4-B2AB-E9ED2E6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E155-B3AC-4C19-8BA1-C1719BA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AFEC-907D-4FB4-A2C5-4D1C368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1354-A152-4C6D-ACA9-E307C40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F82E-D66D-4D93-91B9-0E80F212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DDBF-F776-4EA0-AB52-B6A8AAF3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75A9-FCE8-4E73-9DAA-D926A4B4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FEB1-C454-459A-BEAC-DB338C7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CABD-4EA3-48B0-ABF4-A353F3E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F8E5-D3F2-42DA-92FF-B1E98F7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4A0-DD35-4F60-BF4A-0A8576F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4336-C0F8-471B-B88A-26D362A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DB14-3AB8-441D-B5C7-24EA985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631A-B034-4178-B026-5F10C00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2ACF-CB51-48A6-BC89-5CC254D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110A-EAD9-4824-B70E-E14A58F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822F-1C22-4874-AD03-F9C332D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B397-8C1F-42BE-AB29-374B3C95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D243-F36C-4A33-8E28-C7810EF6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B994-DDC7-41EF-B8F6-05A8E25D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604D-7CB1-46CF-B629-15BC1A8B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89E-3D8C-4808-A7D1-1C2BEB87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CF41F-44AE-45AA-84B8-85406D1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A127-39F2-478B-81C5-12EC54D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C7361-CF39-47B4-ACEB-D9335EA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E241-8202-4EC3-A424-4AD1658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9259-1541-4C8A-95F6-D2D327E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3332-D5A6-44EC-A568-BCA285F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4DFE-B534-4F0A-B4B5-FB0A445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371B-7902-424B-8F14-B9CF775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F3BF5-6EA3-43A7-AD6E-4B0659BB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76C9-4A8F-454A-BD6F-37A5C159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B42-AC01-46AF-809F-BE454BC3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13E4-066F-4DC3-A404-F7B51899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C575-C5DF-483E-BDB5-3544746C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D9C5-5DB1-41E2-9DAB-C63E2E4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152E-8C06-4B65-AAC7-24E4103D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6408-C918-4D52-AD81-141D73F8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A6D2-A216-49AE-973D-13A0E4E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36E2-C9E8-4ACB-9152-AE555D8D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40B3-B978-4C41-A7BF-42E2C11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2F45-F5B6-4CAB-BC6F-0542123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9E5F4-27E1-4230-A74A-D1598AB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826-EF57-47DC-8848-4668F2AA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EE88-455D-41D0-BA26-FE04572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B35B-7778-4DB1-8F28-09B4F77A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D19A-D6E6-4131-BE17-96F365C1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5EC6-D5E4-48D4-A3B8-8ABA883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4B07-5918-4B94-919A-D82D97B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3F23-3D46-4FE7-A573-C36380CD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85D9-E49B-4368-8BE1-C901223C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CA53-3C0F-42DF-AB42-17324E7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2324-9681-4028-A401-7AA3979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10E9-BAD3-46D4-9755-466A7AB9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76F-405B-4A86-B1D9-ED867C0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CC81-0232-424C-B6F1-CDB14E1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1B1C-A1D2-4305-B9C9-46F22341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D5BA-1FF5-4E25-8A1D-3DC5838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865F-9D0D-45A6-A124-4A4B5BB9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A3320-40E2-4A3C-A50C-17151DC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2027-4BEF-42BF-8E95-EDE14B31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3833B-41EA-4320-B03D-F5989DD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57D9F-7018-4CA0-A74B-A7B481C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3822C-8AA5-4D40-AD7B-51A8539A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A628A-5856-4403-9406-31D7BF92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F1A-57FE-45F4-A437-83C695F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189D-93CD-43C7-87FB-3AA91639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06F0-EA1D-43E3-B17E-93B9DFE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A1D5D-E330-4B5F-BA46-8F6789C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40002-F320-469A-B334-6801618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AFCFD-829C-4969-A7CE-9D91B00B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1692A-A1BB-4841-AA7E-83CB05FA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920A-E953-4861-996C-5B8CF41A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D1C2D-6CD9-44BA-9EF5-E264E0F6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2F372-F04C-455C-B3E0-8B9651D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77630-946A-4F7E-9F20-59BB5D8B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3331-744C-42BD-969E-9A9CB54913B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9C6-D963-42EE-9C41-C68022E4CF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C84-38DA-416D-A17E-4D0CA75B32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BD5D-7A28-4283-889F-7762EAF63A7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676-7730-42AA-8B6A-33C13EFE4E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462C-48C3-409D-86CC-FAB44DDE60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BA5-C850-4171-A5CA-7F720FD207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A81-481B-47AC-9BB7-21447C1704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758-CD05-47C0-899A-80D287F72B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5" descr="Manifest Destiny Painting"/>
          <p:cNvPicPr/>
          <p:nvPr/>
        </p:nvPicPr>
        <p:blipFill>
          <a:blip r:embed="rId2"/>
          <a:stretch/>
        </p:blipFill>
        <p:spPr>
          <a:xfrm>
            <a:off x="533520" y="1133640"/>
            <a:ext cx="8001000" cy="572436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2" descr=""/>
          <p:cNvPicPr/>
          <p:nvPr/>
        </p:nvPicPr>
        <p:blipFill>
          <a:blip r:embed="rId3"/>
          <a:stretch/>
        </p:blipFill>
        <p:spPr>
          <a:xfrm>
            <a:off x="533520" y="0"/>
            <a:ext cx="7937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pular sovereignty for the Nebraska Terri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pular sovereignty could not apply unless Missouri Compromise of 1820 repealed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ansas-Nebraska Act became law in 1854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map of the Nebraska Territory 1854-1867"/>
          <p:cNvPicPr/>
          <p:nvPr/>
        </p:nvPicPr>
        <p:blipFill>
          <a:blip r:embed="rId4"/>
          <a:stretch/>
        </p:blipFill>
        <p:spPr>
          <a:xfrm>
            <a:off x="4495680" y="1676520"/>
            <a:ext cx="44197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en was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most popula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was the effect of the Kansas-Nebraska Act on new territories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slave states compromise"/>
          <p:cNvPicPr/>
          <p:nvPr/>
        </p:nvPicPr>
        <p:blipFill>
          <a:blip r:embed="rId3"/>
          <a:stretch/>
        </p:blipFill>
        <p:spPr>
          <a:xfrm>
            <a:off x="4648320" y="380880"/>
            <a:ext cx="4165560" cy="60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I.  Growing Tens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red Scott Ca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Judge ruling: Fifth Amendment – property protec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uling guaranteed slavery in non-slave stat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4" descr="Image:DredScott.jpg"/>
          <p:cNvPicPr/>
          <p:nvPr/>
        </p:nvPicPr>
        <p:blipFill>
          <a:blip r:embed="rId2"/>
          <a:stretch/>
        </p:blipFill>
        <p:spPr>
          <a:xfrm>
            <a:off x="4724280" y="1523880"/>
            <a:ext cx="354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523800" y="1225440"/>
            <a:ext cx="8016840" cy="18417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7931160" cy="1139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’s the big deal if you enter the union as a free state or slave state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uling party more likely to pass laws that are in their interest; usually coincides with sectional interes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.K. So, who passes laws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 what was the main issue of the time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7967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72396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.  Louisiana Purchase/Fra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.  Missouri Compromise of 182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Missouri(slave)/Maine (free), 36’30 N Latitu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USA_Territorial_Growth_1820"/>
          <p:cNvPicPr/>
          <p:nvPr/>
        </p:nvPicPr>
        <p:blipFill>
          <a:blip r:embed="rId3"/>
          <a:stretch/>
        </p:blipFill>
        <p:spPr>
          <a:xfrm>
            <a:off x="76320" y="2816280"/>
            <a:ext cx="90676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ousands move to Californ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ply for statehood; need strong gov’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currently have 15 free and 15 slave states!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2"/>
          <a:stretch/>
        </p:blipFill>
        <p:spPr>
          <a:xfrm>
            <a:off x="533520" y="0"/>
            <a:ext cx="793728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 = free st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t and N.M. =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– people of the state decide for themselves to be or not to be a slave st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ricter fugitive slave laws = $1000/6 mo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37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1" descr="USA_Territorial_Growth_1820"/>
          <p:cNvPicPr/>
          <p:nvPr/>
        </p:nvPicPr>
        <p:blipFill>
          <a:blip r:embed="rId3"/>
          <a:stretch/>
        </p:blipFill>
        <p:spPr>
          <a:xfrm>
            <a:off x="228600" y="2984400"/>
            <a:ext cx="8686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9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riet “Moses” Tubma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an away when owner di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lped over 300 slaves to freed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3"/>
          <a:stretch/>
        </p:blipFill>
        <p:spPr>
          <a:xfrm>
            <a:off x="5262480" y="1600200"/>
            <a:ext cx="311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3" descr="scan0003"/>
          <p:cNvPicPr/>
          <p:nvPr/>
        </p:nvPicPr>
        <p:blipFill>
          <a:blip r:embed="rId2"/>
          <a:stretch/>
        </p:blipFill>
        <p:spPr>
          <a:xfrm>
            <a:off x="990720" y="434880"/>
            <a:ext cx="70866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uthern agriculture economy 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pended on slav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vention of the cotton gin =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crease in demand of slaves =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crease in African population in Southern St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tton and Tobacco cash cro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Cotton-gin[1] (3)"/>
          <p:cNvPicPr/>
          <p:nvPr/>
        </p:nvPicPr>
        <p:blipFill>
          <a:blip r:embed="rId3"/>
          <a:stretch/>
        </p:blipFill>
        <p:spPr>
          <a:xfrm>
            <a:off x="4572000" y="198108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8-31T13:31:19Z</dcterms:modified>
  <cp:revision>32</cp:revision>
  <dc:subject/>
  <dc:title>PowerPoint Presentation</dc:title>
</cp:coreProperties>
</file>